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FB239-1561-4E58-B057-F0A291DA2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D5A0E-5776-4595-A5E7-852289877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FEB61-3593-46E9-A349-8E727102C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C92E5-23D2-4B70-8954-D7FEC1A03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91B17-F8FC-4A9D-9A9B-A43006EA2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3F530-7E2C-4CAF-A60A-5843504BA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63517-A8AA-477B-910E-64A433908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AABF0-C49E-46DB-8588-44097CBE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811DC-B4DB-4408-AA41-3A7830CEC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A2ACB-C48E-4763-8BA3-DCACB3217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0E9A6-F811-4EB3-B194-EA5D496EA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8471-9E4D-46A6-9E4E-8180F6A1B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9663-F6D4-4050-984B-0BDEFF1C21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2 Chapter 1 Fac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vor Tyau</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ic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 Verdad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523880" y="1371600"/>
            <a:ext cx="6782040" cy="506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umbu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bus was and intelligent and dedicated mariner who was very ski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having read Marco Polo’s account of his adventures in the service of Kublai Khan, decided that these rich lands could be reached by sailing w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ch lands he was seeking was China and Ja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ns and Europea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anish sent conquistadores to meet the Indi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quistadores read a decree to the Indians out of earshot of the Indi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n the Indians retaliated, the Spaniards decimated th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aniards did so easily because they were iron clad in armor and armed with steel weapons while the Indians were buck naked and unarm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and Population Loss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s agree on the fact that the Indian population rapidly declined when the Spanish arri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due to the fact that the Spanish brought with them diseases unknown to the Indians, therefore they had no immunity to the diseases and they succumbed to them one by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in’s European Riva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s rival is Brita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133720" y="2438280"/>
            <a:ext cx="5181480" cy="388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testant Reform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uption within the Catholic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in Luther’s  objection to corrupt manner of promoting and selling indulgences acted as an immediate cause of the Reformation. </a:t>
            </a:r>
            <a:endParaRPr b="0" lang="en-US" sz="3200" spc="-1" strike="noStrike">
              <a:solidFill>
                <a:srgbClr val="000000"/>
              </a:solidFill>
              <a:latin typeface="Arial"/>
            </a:endParaRPr>
          </a:p>
        </p:txBody>
      </p:sp>
      <p:pic>
        <p:nvPicPr>
          <p:cNvPr id="54" name="" descr=""/>
          <p:cNvPicPr/>
          <p:nvPr/>
        </p:nvPicPr>
        <p:blipFill>
          <a:blip r:embed="rId1"/>
          <a:stretch/>
        </p:blipFill>
        <p:spPr>
          <a:xfrm>
            <a:off x="0" y="4245120"/>
            <a:ext cx="9144000" cy="234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ish Beginnings in Americ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ventures- Not sponsored by the cr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to discover passages to Or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interests are primary motivations behind English development, evidencing early support for capitalism; these biases are unfortunate as they do not parallel national interes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nch and Dutch settlem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in the St. Lawrence River area.</a:t>
            </a:r>
            <a:br>
              <a:rPr sz="3200"/>
            </a:br>
            <a:r>
              <a:rPr b="0" lang="en-US" sz="3200" spc="-1" strike="noStrike">
                <a:solidFill>
                  <a:srgbClr val="000000"/>
                </a:solidFill>
                <a:latin typeface="Arial"/>
              </a:rPr>
              <a:t>Dutch in the Hudson River Valley were great traders due to their domination of sea trade and interior trade posts. They also traded with the Native Americans for fu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ch also terrorized Spanish galle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many Indians perish with European settl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17:59:31Z</dcterms:created>
  <dc:creator>Trevor</dc:creator>
  <dc:description/>
  <dc:language>en-US</dc:language>
  <cp:lastModifiedBy>Trevor</cp:lastModifiedBy>
  <dcterms:modified xsi:type="dcterms:W3CDTF">2011-09-21T06:05:38Z</dcterms:modified>
  <cp:revision>10</cp:revision>
  <dc:subject/>
  <dc:title>Group 2 Chapter 1 Facts</dc:title>
</cp:coreProperties>
</file>